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679-EEFE-48D1-AF97-D4143CE2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681-8AC1-4ABF-BC8E-B14101442A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21E9-6E3D-4A66-B520-E43470BC2F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F52C4A9-A124-4E46-8F9A-CAC76369D7B8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1D0DC7D-6F43-4F09-97DD-04D259F553A6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1D7D934C-E5B6-455B-8E6E-8C3C55AC0DFE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71E835AC-A26E-4CCF-863B-DA135B79A1A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1C45483-5373-47CC-9068-B9DC2DD4720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A05C5F7C-0F90-4217-8980-7D238A84D5DC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Text Box 8"/>
          <p:cNvGrpSpPr/>
          <p:nvPr/>
        </p:nvGrpSpPr>
        <p:grpSpPr>
          <a:xfrm>
            <a:off x="-122400" y="6095880"/>
            <a:ext cx="9259920" cy="549360"/>
            <a:chOff x="-122400" y="6095880"/>
            <a:chExt cx="9259920" cy="549360"/>
          </a:xfrm>
        </p:grpSpPr>
        <p:pic>
          <p:nvPicPr>
            <p:cNvPr id="237" name="Text Box 8" descr=""/>
            <p:cNvPicPr/>
            <p:nvPr/>
          </p:nvPicPr>
          <p:blipFill>
            <a:blip r:embed="rId1"/>
            <a:stretch/>
          </p:blipFill>
          <p:spPr>
            <a:xfrm>
              <a:off x="-122400" y="609588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-63360" y="613728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T.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TextBox 1"/>
          <p:cNvGrpSpPr/>
          <p:nvPr/>
        </p:nvGrpSpPr>
        <p:grpSpPr>
          <a:xfrm>
            <a:off x="-19080" y="3968640"/>
            <a:ext cx="9259920" cy="1322640"/>
            <a:chOff x="-19080" y="3968640"/>
            <a:chExt cx="9259920" cy="1322640"/>
          </a:xfrm>
        </p:grpSpPr>
        <p:pic>
          <p:nvPicPr>
            <p:cNvPr id="240" name="TextBox 1" descr=""/>
            <p:cNvPicPr/>
            <p:nvPr/>
          </p:nvPicPr>
          <p:blipFill>
            <a:blip r:embed="rId2"/>
            <a:stretch/>
          </p:blipFill>
          <p:spPr>
            <a:xfrm>
              <a:off x="-19080" y="3968640"/>
              <a:ext cx="925992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4280" y="4005360"/>
              <a:ext cx="91440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МАГНЕТ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TextBox 1"/>
          <p:cNvGrpSpPr/>
          <p:nvPr/>
        </p:nvGrpSpPr>
        <p:grpSpPr>
          <a:xfrm>
            <a:off x="-66600" y="2255760"/>
            <a:ext cx="9259920" cy="889200"/>
            <a:chOff x="-66600" y="2255760"/>
            <a:chExt cx="9259920" cy="889200"/>
          </a:xfrm>
        </p:grpSpPr>
        <p:pic>
          <p:nvPicPr>
            <p:cNvPr id="245" name="TextBox 1" descr=""/>
            <p:cNvPicPr/>
            <p:nvPr/>
          </p:nvPicPr>
          <p:blipFill>
            <a:blip r:embed="rId3"/>
            <a:stretch/>
          </p:blipFill>
          <p:spPr>
            <a:xfrm>
              <a:off x="-66600" y="2255760"/>
              <a:ext cx="9259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-6480" y="22892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АРН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хваљући присуству феромагнетних супстанци МП изазива биоелектрична гибања - кретања јона - хиперполаризацију на северном, а хипополаризацију на јужном пол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иодична пропустљивост ћелијске мембране без утрошка енергиј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pO2 i do 200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AT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ЕКУНДАРНА БИОЛОШК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ањење вискозитета крви (антитромботи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реолошких особина кр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едематоз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ф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ул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алуса; зарастање р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имунит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имулација ендокриних функ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адаптационих ососб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АПАРАТИ ЗА МАГНЕТОТЕРАПИЈУ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арат за МТ се састоји и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управљачке јединице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генератора електричних импулса)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соленоид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кроз чије навоје протиче струја)- у облику плоча, антена, обруча, душека, подлошки, манжетни, специјалне столиц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Апаратурни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извор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0" name="Content Placeholder 3" descr="sl"/>
          <p:cNvPicPr/>
          <p:nvPr/>
        </p:nvPicPr>
        <p:blipFill>
          <a:blip r:embed="rId1"/>
          <a:stretch/>
        </p:blipFill>
        <p:spPr>
          <a:xfrm>
            <a:off x="2666880" y="2057400"/>
            <a:ext cx="55342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Уређај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а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оленоидом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2" name="Content Placeholder 3" descr="sl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кал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оболели део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флекс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вегетативне гангл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шт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у пољу деловања цело тело, сем гла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ачина пољ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m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Hz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избор зависи од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m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реме: основна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рој дана: неогранич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ОНО ПОДРУЧЈЕ У ЗАВИСНОСТИ ОД ФРЕКВЕН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484280"/>
          <a:ext cx="8143920" cy="5089680"/>
        </p:xfrm>
        <a:graphic>
          <a:graphicData uri="http://schemas.openxmlformats.org/drawingml/2006/table">
            <a:tbl>
              <a:tblPr/>
              <a:tblGrid>
                <a:gridCol w="2170080"/>
                <a:gridCol w="5973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РЕКВ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Д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 врсте уп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хитис; Поремећаји спа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грена; Слаба цирк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инеколошке тег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астање 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генеративни реуматизам; Ванзглобни 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атска ст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порено зарастање прело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озитис, тендинитис, миал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мфед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. стања; Дегенер.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Čuvar mesta za tekst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аљ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Čuvar mesta za sadržaj 4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фекције уринарног тра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еуматска запаљенска стањ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Čuvar mesta za tekst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Čuvar mesta za sadržaj 6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иферне 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ebothromb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Čuvar mesta za tekst 8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гресивне смет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ndyl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xart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theopo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cheurman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cus crur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opathi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C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Čuvar mesta za tekst 9"/>
          <p:cNvSpPr/>
          <p:nvPr/>
        </p:nvSpPr>
        <p:spPr>
          <a:xfrm>
            <a:off x="4500720" y="1535040"/>
            <a:ext cx="4643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ттрауматска с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реде меких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шчашење зглоб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ломи кост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бол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ПРИМЕН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ц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винциј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agnezija; Tal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pokrat, Pla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гипћани, Кинез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Римљани, Византијци, Арапи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Gilber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 магнету, магнетним телима и о великом магнету Земљ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s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I vek Glaisaul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штачки магне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e Noble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представио медицинском св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2. Sabovlje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ај МП у диференцијацији жив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8. Presma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јбитнија је информ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74. Dubro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познавање геомагн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м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увенилни диjабет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рађен pace-ma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ктивна TB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иновијална псеудоарт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варење Г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ЕДНОСТ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осредна примена скраћује време ле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ојне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ло контраиндик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контактна метода (одећа, гип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ермична (метал, кеса с ледо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Једном антеном два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НЕДОСТАЦ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мер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остатак литерат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овек нема рецепторе за М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же дејство – дужи трет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и ефекти код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тиреоидее, гонада и других ендокр.ж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МЕРЕ</a:t>
            </a:r>
            <a:r>
              <a:rPr b="0" lang="sr-Latn-CS" sz="44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ОПРЕЗ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Забрањује се радио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обе са металним имплататима не треба да бораве у близини јаких М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оват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аротидним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нус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през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ф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ропратне појаве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Блага узнемирено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оремећај биорит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,,Прозорско понашање живих бић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-4С(мржњење морске воде) до50С (коагулација беланчевин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pH,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нцентрација гасова,влажнос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П зависи од 4 независна фак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налажење ,,прозора” за терапијске и избегавање штетних ефек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м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Јапану по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мунија, земље бившег ССС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ћина европских земаља 1960-198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АД 80-тих година апарати за терапијске свр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ловенији у Марибору први пут у Ф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9. на Медицинским факулте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Електромагнетна</a:t>
            </a: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ољ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ови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у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азнањ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ас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каз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иво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емљ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ија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тицаје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ног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кт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ђ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им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уз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о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круж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рекло: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Зем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еђупланетар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космичк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)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о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ехни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слови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и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ештачк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зв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акођ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ел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рганиза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71388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ног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мери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ма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не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у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каза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вољн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а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рапеутс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тимул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рве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рнц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но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рган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ди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елокупн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ак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маж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лиминисањ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тро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чим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ању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итиса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бо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гача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елаксирају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н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о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елатони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па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во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птимал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јач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мунолошк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исте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то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аланси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дма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рц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мањ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тпу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клон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гнетотерапија је примена константног и променњивог магнетног поља у циљу превенције,лечења и рехабилит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инвазивна,сигурна и ефикасна мет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П постоји око проводника са струјом и око сталних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ра се поље таквих карактеристика (врста,начин и доза) које ће интерферирати са МП једин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о ЕМП 10-14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еомагнетно поље 47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магнетне б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ијагностичка примена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римена магн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58" name="Picture 8" descr="Magnetoterapija"/>
          <p:cNvPicPr/>
          <p:nvPr/>
        </p:nvPicPr>
        <p:blipFill>
          <a:blip r:embed="rId1"/>
          <a:stretch/>
        </p:blipFill>
        <p:spPr>
          <a:xfrm>
            <a:off x="1643040" y="1500120"/>
            <a:ext cx="5929200" cy="50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ЗВОР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константног МП (безапаратурни,стални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гнетофор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тковичасти магн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ој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електромагнетног поља (апаратурни) које настаје око проводника када кроз њега тече стру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скофреквентна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исокофреквентна 100- 64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LF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Хиперполаризац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нормализацијо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мбранског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т</a:t>
            </a:r>
            <a:br>
              <a:rPr sz="4000"/>
            </a:br>
            <a:endParaRPr b="0" lang="en-US" sz="40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4" descr="hiperpolarizacija"/>
          <p:cNvPicPr/>
          <p:nvPr/>
        </p:nvPicPr>
        <p:blipFill>
          <a:blip r:embed="rId1"/>
          <a:stretch/>
        </p:blipFill>
        <p:spPr>
          <a:xfrm>
            <a:off x="1066680" y="2057400"/>
            <a:ext cx="7467840" cy="434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6-10-09T20:52:44Z</dcterms:modified>
  <cp:revision>662</cp:revision>
  <dc:subject/>
  <dc:title>PowerPoint-Präsentation</dc:title>
</cp:coreProperties>
</file>